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2BC-8E5E-4190-A6DA-A7F41F18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60F-D40A-4E25-A4BC-0A08FA12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BC8-7DD0-4DCB-B18A-738BDD7B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247-B776-4321-8CBE-DC5B1C33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BC91-7E27-49F1-90F6-84702F2E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25A5-D3D0-465C-BB8B-F84B5B69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F9DA-130E-40B0-95CF-12685EB3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5E37-A279-4F38-A417-0DAB93A6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6265-0A80-4E9B-ABB8-78A64DF9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5D53-7E7A-4104-BAD0-FC4BD633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C1F3-4E27-431C-95AE-FCAD6A86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CDE-C5E6-4B49-AE23-6A4A2BD4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634E-95AD-4561-BABD-66F3ECEF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87EE-864B-4B12-A76D-1CDC33E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B39A-0B3E-4552-99AC-446797C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4C37-7D4C-45C5-B801-5475C440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A85E-05F8-487C-9B85-73E0C765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696-41ED-463E-9611-6CD6DC67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0A8-6B65-42CF-A6AE-3A4E1C63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0A5-568C-4B50-A7CE-6871D8F8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041-D3F2-4678-91BE-A54EDCFF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DD7-E881-40DB-8F2C-CAE22B8D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229-629B-4908-B3B1-FB37069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5E5-46D5-4561-A38C-51CDCBD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EC348D7-514F-4435-8029-A0739873505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ABA860A-026E-4CC6-88F7-5B1F0FC99BF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Superscalar Process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s have many advanta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uses canonical pipeline stages for superscalar processor gener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of FabScalar generated cores remains to be further investiga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B0EA-CAFC-414D-A524-C8D13925B7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of FabScalar generated co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we can d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93F2-B1DF-4936-BB57-F5F2138D3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eterogeneous Multi-Core Process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0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ains multiple, differently-designed superscalar core types that can streamline the execution of diverse progr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re types differ from each other and target at different appli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uperscalar process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tilizes instruction level parallelism. Executes more than one instruction during a clock-cyc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atch instructions to redundant functional units such as ALU, multiplier, bit shifter, etc on the process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chilles’ heel” of heterogeneous multi-core processor de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sign and verification effort is multiplied by the number of different core types, which limits the amount of architectural diversity that can be practically implemen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E67C-A8DD-41DF-B1E2-D3CF1F876D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oolset developed to automatically compose RTL designs of arbitrary cores within a canonical superscalar templat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ames superscalar processors in a canonical template which defines canonical pipeline stages and interfaces among th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anonical Pipeline Stage Library (CPSL) provides many implementations of each canonical pipeline stage that differs in their superscalar dimens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RTL generation tool uses the template and CPSL to automatically generate an overall core of desired configur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6043-211B-4B48-9264-CFABBCD2CF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nonical Pipeline Sta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717000"/>
            <a:ext cx="822924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pipeline stages and interfaces are the same for all the superscalar processo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ch pipeline stage is composed from the Canonical Pipeline Stage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95640" y="1556640"/>
            <a:ext cx="8208720" cy="1809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4385-59F2-4778-B017-2BDB935153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nonical Pipeline Stage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284120" y="1219320"/>
            <a:ext cx="6575760" cy="493668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1BC1-809A-41E4-838B-EF804D3189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Mem: A Multiported RAM and CAM Compil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0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timates read/write delays, read/write energies, and areas of user-specified multi-ported RAMs/CAM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nerates layouts of desired RAMs/CAM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imit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is tied to a specific technology (FreePDK45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largest supported RAM is 512 word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can generate RAMs for only 2XR-XW and XR-XW configurations. The maximum number of read ports is 16. The maximum number of write ports is 8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degree of column muxing in RAMs is limited to 1, 2, and 4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largest supported CAM is 256 word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can generate CAMs for only XR-XW configurations. The maximum number of read ports is 8. The maximum number of write ports is 8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E03E-DFEB-4C61-8E6C-94E9E495E7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by FabScalar Grou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9704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FabMem to generate custom designs of critical memory structur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rse-grained floorplann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ttle consideration of power, area and performance issu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FreePDK45, a 45nm based standard cell library, for logic synthesis and place-and-rout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500000" y="1556640"/>
            <a:ext cx="4409640" cy="4352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C9AD-C7C1-486A-B786-1322504D8D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Things We Can 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orplan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ta path de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design – comparison between FabMem and other memory compil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dence vs Synops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wer plan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5A47-173B-46AB-965A-4C383B0ADB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682</TotalTime>
  <Application>LibreOffice/7.4.7.2$Linux_X86_64 LibreOffice_project/40$Build-2</Application>
  <AppVersion>15.0000</AppVersion>
  <Words>493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2-23T15:16:29Z</dcterms:modified>
  <cp:revision>1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